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3577-5290-4702-9D52-549068763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04A8-273D-46C6-A116-E8A08E79A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1AC9-2081-4B92-854F-1642E3EF9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FB04E-4945-4320-975A-79B93C12E1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270D1-F217-408A-889D-301626B2516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8382F4-3F6C-4A3C-A325-82357391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942B8A-F782-4755-9CCF-48742D3A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CE27C4-0713-450F-B75A-29C4DC2F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4F8712-E4FC-4B3D-AB17-14FE9F62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484170-BD9B-4B65-BA85-A4178B4A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33F86C-0DD9-4542-BCCC-E9888960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854CD8-7761-4AEE-ADA9-E9E87973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12322B-1398-4E5D-B91B-458BB02E7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3E8CC5-00F5-4B43-92F4-6028547B5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ABC22C-8986-44B3-ABB5-68BFE3227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8C9EB-D4D4-45A3-A716-14982EA5528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496EDD-3610-41E6-8978-CFA4D84F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26CCC9-E293-45AC-954F-0DB84C2D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15A382-B1AB-4D33-9728-BC7F9225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B0A79B-2AD6-4567-81A1-8BD15F4F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FAB26A-A249-4435-80C7-C2BA048A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898639-FA70-4907-9F79-16F56905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D5DC4A-46F6-4534-956D-E5D19A85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7B91C6-C31C-4905-BCE8-9FE1A2B5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00D92B-D365-441C-B3F6-1BFBD0D1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C98CC8-49EA-4FD2-9F55-3A587E7C4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D1929-0A1F-4936-B89B-C0B3B222F2F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5206F0-C505-4B88-9459-DD423F624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C378A82-A23D-46AE-A802-8D7D23BDB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4F18302-B88C-4B56-82E9-389A4C72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15C4024-3A6D-48D7-A7F9-DDDF7EC7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6EB74F0-61F5-4B75-92CB-DD2E521B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F884C2D-43F7-4BC1-B359-B0D7463D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B4BF726-1541-4FD1-8FE3-D3AF3D55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3778032-C44E-4BBC-8CE5-11A64DDD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4F36F8D-90EB-4497-89C6-3342C597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E7CDC89-3229-4EB5-B781-B605BA06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983711-FA0F-4687-8554-E74A0761D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23767FD-2B43-4968-93B1-93355CB7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79437B8-495D-4C5D-96F7-09EBD30AA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46B83B2-A7B6-4FB4-8165-1751E4B6F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8738CC-7AD5-4B04-8959-7134A4D5E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56DE6A-C582-428B-9C1D-F3C5A444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C68E73-E885-4F25-9C54-04542E72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CE99C7-F6FC-48CC-8B12-E7D1E8B4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7F3796-B7CD-4645-B395-1B36DE29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D79CCF-F4FD-45C7-BFD6-5BF3C8E0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EE7884-308A-48D8-9FD4-296D6F12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41122-DE8F-4534-BF90-83EDC3C6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5215CD-A5F6-4EDD-A1A6-C4DB4F6F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C1DC1C-D457-4F3A-8D6F-6A014FA6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B0D830-D1FD-4235-B1D0-5FF14F32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79929C-C882-4926-8E9B-9C4884737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E18FAE-5D51-481A-84D0-EA9B62D54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2100A6-E423-4508-910B-956B49D5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C2D4B2-0814-49F5-A4A9-344BD32C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7412D-3736-4F75-A303-2EBA8A58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C4E8F-FB6D-4CF3-BD48-3FABF4FF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6B20F-883B-43FF-9E22-D2119BA0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DE53C-2A65-4598-B380-DA72390DE0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214EB4-6E8A-4EA7-AB0C-BF2A0E3E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E36D6-EAB5-426E-BF4E-AB5DC7DA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BAFAE0-809E-47A2-A784-E138AD3D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92F9A-B879-46D1-BA9E-A6160EBF5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C37A9-C5F4-48F6-8EC8-405398B62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476C77-C2C3-449C-949B-F17047EB2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3FB808-2621-4634-846C-D0891D68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47D13C-CE55-4216-A493-ACF3D5A4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2D4DC5-0621-47F0-80A3-9F606A24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2F8FC9-193A-423B-9ED9-B006E41C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06FDE-39C4-4B67-A48B-161F556FE91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4F2292-8281-4B27-8E86-7D919D2E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74C1A6-5345-46E8-899E-79F1F671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BAF243-DC88-468D-8F95-E2403995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961C83-23B6-4304-B360-C074C32B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26A4BE-5BD4-4E97-A3B0-38DCC293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501FE6-FF02-4805-8D66-7BD3870DA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BAEA18-696A-4DA9-BAD6-64EBF356F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3B219A-967C-40DB-897C-4ECEEDE22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88B792-F6BB-4EB4-B2D5-3C7F66E1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E29071-7306-4C19-94AD-14DEE26F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E5C6A-33C2-4B19-B7A6-54314FDB341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6F9B3A-FC6B-45C6-AE09-CC703FC6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EAAFB3-52F9-47D5-B49C-50E7B0BF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81F910-BCAD-4A8A-A136-77ED1B3E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8E09F4-20B2-43EF-81F7-5D7C64A4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4F30B8-206C-40E2-B618-A4E96590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56D82E-A8CC-47F6-AE3B-43A0BAC2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61C9F2-CD97-4585-8BC3-484D7C14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404E8E-25F9-4EDE-BDD1-430B99D59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AC7877-B7EF-4B69-A936-46191C6EB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8E11BB-6938-4241-A9BF-655499B0A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38F3F-0302-4C87-9878-277C7FBCEBD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D576B0-003B-4954-9FEF-C1FAA620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3842E3-2EEA-40F7-809B-C1603C65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FF5660-2747-4DDC-B545-08B23C14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51FBF6-2FF4-4426-A9EA-933ED547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C84C10-BD29-47F0-8757-79020658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FAC9E9-8573-40A3-A481-106F17A1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A12941-B86E-482C-AC64-04C984D6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99528E-3004-46E5-9817-AFB67195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D17FE8-36DF-48EA-9F17-70ECD88D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2AA71D-F43D-423B-91DF-354DFD2E0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296E4-B807-4109-BFAE-0C4CB250FBC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002FAA-0DDF-4378-AFE2-DEA1EE0F5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69A5B0-850C-4139-BBDA-A8B0A2F3C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BA4844-D9AA-4C34-AFB5-724C36F9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002536-50DB-407C-A9E8-56E8FB53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F2B621-D468-42EF-9551-6E2B2FE8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808691-D685-4354-90FC-D0DA2CFD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ED55C5-175D-41F3-9FF4-B940F2E1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331E57-9041-43AB-B47C-81CE28E1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736D86-9044-438D-8A61-AD01580B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39885B-371C-4D23-AA36-05FF3454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8D043-1144-4142-9946-93429FF317D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249FBA-AFCD-4299-9535-C974D7B4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B82E2C-A492-4FCE-8FD1-25EA5BCD0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B26627-05BE-4749-AF89-194BB9A05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2A5E68-CF78-43FB-81C6-4638AC666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C016C6-A466-4D0B-BDE8-1F8D33EA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1A608C-F608-450F-B372-940B27A8F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ADEC56-4343-4696-AFBB-9FD67B73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5275EB-05AF-41F8-95CA-8CF7CDEF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0413C9-3A59-43B8-9FF9-C70758D4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E43672-4C12-41AB-B766-DE0DD39A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9DB85-2E3B-4AB9-B1AE-AB7D41D3452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71A7D7-B445-47DF-803E-D42EF38C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B89386-BA61-4126-91B1-FED28270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F15BE9-8BED-431B-A2F3-BF812704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FCB648-950A-4F90-9B0B-48431893E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AD808D-39B9-4105-B155-4D3963AF7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047091-F268-481D-AE4E-64D3FDDFD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01D7CB-9235-44A8-8370-348FFB23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B2810D-FDCE-4AFD-B65D-47205621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866C58-11F5-49E7-A3A8-29D8A56A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2CD004-57D9-408E-BFD1-99B58DB8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5CA38-A9F9-4BB2-AC31-E0562F1ACB5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14BA04-DA6F-4409-A5D6-5C801C7D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7C8727-1B72-4F88-8C8B-909B5CDD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907DC6-D03F-4486-9A43-6AA5F99C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A1F7B5-6714-4BBE-A55A-1BE940C2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3A50DC-C11B-4CA7-A933-69CF7220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EE184D2-091B-4423-A37C-16C9AE0AE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B70B90-9FBA-4C15-9927-7426596EB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9BCDB2-0D0A-4441-A7D5-4286FEB60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01D414-3390-402B-ABBE-175040CF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4DC8A3-F167-41D9-B9D5-52440164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42E0-8DDF-48A3-87F2-A5CAB31BCD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7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sldNum" idx="2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9CA2-5EEF-4A30-8F85-325E80DC60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6726-1312-49DD-AB6E-A54B559B2426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A655-AD6A-4846-B937-9845578B9D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C765-C6FD-48EF-B993-85B1172586F4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7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sldNum" idx="3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63B0-DEB6-4758-B15F-1A416A2EEA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3F84-F97B-4B43-A28B-A6932CE468DF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Text Box 21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BDA9-3708-4139-8243-4F8881F04E4A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C3B9-21E7-4C9C-99F8-561064818E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4281-6607-4B03-83EC-D3E3155B5C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EC55-BDA0-425C-858C-3C8261CBAC28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E905-5E3B-40A4-AA4C-47D98B6D83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318C-AE05-45AF-9CF8-40E28007839E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724A-AA1D-4439-88B9-9A6761BF17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5B1C-C985-4A7C-898D-74ABCA949A0D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sldNum" idx="1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2432-84BA-4911-80A3-5DF379AEEA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0FEF-1626-46AC-9B33-309B509E9B51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1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70C6-19E1-40A2-B472-124F73B230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5328-1D58-468E-B104-220CF68D0A8E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6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sldNum" idx="2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1759-0759-4CB3-9A51-E7A4E34D87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19D0-B516-4E92-A4D7-D2BC05FBB2F7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2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43D7-8EF7-4581-9214-657C066AD6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52BB-1CC7-406C-B24A-7BD47B4861EF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CA9B-BCFF-489F-9D05-2878D4C137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имер контрольного списка для инструктаж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13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Document"/>
          <p:cNvSpPr/>
          <p:nvPr/>
        </p:nvSpPr>
        <p:spPr>
          <a:xfrm>
            <a:off x="1371600" y="1447920"/>
            <a:ext cx="6553080" cy="51051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курсия по 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ить нового сотрудника руковод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накомление с оснащением 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правила в отношении персон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 управления качеством в 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жностная инстру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13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14"/>
          <p:cNvSpPr/>
          <p:nvPr/>
        </p:nvSpPr>
        <p:spPr>
          <a:xfrm>
            <a:off x="1523880" y="1523880"/>
            <a:ext cx="632484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ТА НАЧА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ЛЖНОСТ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14EC-F54A-473F-A23B-3F091CB2FF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838080" y="1419120"/>
            <a:ext cx="7925040" cy="448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Verdana"/>
              </a:rPr>
              <a:t>Аттестация работы сотрудника может выявить больше возможностей для улучш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Verdana"/>
              </a:rPr>
              <a:t>для самой лаборатори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Verdana"/>
              </a:rPr>
              <a:t>чем для сотруд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6" descr="MCj04260720000[1]"/>
          <p:cNvPicPr/>
          <p:nvPr/>
        </p:nvPicPr>
        <p:blipFill>
          <a:blip r:embed="rId1"/>
          <a:stretch/>
        </p:blipFill>
        <p:spPr>
          <a:xfrm>
            <a:off x="512640" y="533520"/>
            <a:ext cx="12398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032E-9268-4026-81AA-E68EB4FD30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4136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99"/>
                </a:solidFill>
                <a:latin typeface="Verdana"/>
              </a:rPr>
              <a:t>Квалификация и </a:t>
            </a:r>
            <a:br>
              <a:rPr sz="3400"/>
            </a:br>
            <a:r>
              <a:rPr b="0" lang="ru-RU" sz="3400" spc="-1" strike="noStrike">
                <a:solidFill>
                  <a:srgbClr val="000099"/>
                </a:solidFill>
                <a:latin typeface="Verdana"/>
              </a:rPr>
              <a:t>должностные инструкци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5"/>
          <p:cNvSpPr/>
          <p:nvPr/>
        </p:nvSpPr>
        <p:spPr>
          <a:xfrm>
            <a:off x="609480" y="136044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лаборатории должно имет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всех сотрудников должностные инструкции, которые описывают квалификацию и обязанност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Verdana"/>
              </a:rPr>
              <a:t>ИСО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15189: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6"/>
          <p:cNvSpPr/>
          <p:nvPr/>
        </p:nvSpPr>
        <p:spPr>
          <a:xfrm>
            <a:off x="609480" y="3276720"/>
            <a:ext cx="381024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ое 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е дипломы и сертифик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е степ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ое пройденное об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й опыт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е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7"/>
          <p:cNvSpPr/>
          <p:nvPr/>
        </p:nvSpPr>
        <p:spPr>
          <a:xfrm>
            <a:off x="4724280" y="3276720"/>
            <a:ext cx="411480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000" indent="-1080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означьте распределение полномоч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означьте ответственность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се р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се обяза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се ответ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иерархия отче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609480" y="2438280"/>
            <a:ext cx="38102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Квалифик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9"/>
          <p:cNvSpPr/>
          <p:nvPr/>
        </p:nvSpPr>
        <p:spPr>
          <a:xfrm>
            <a:off x="4724280" y="2438280"/>
            <a:ext cx="411480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Должностная инстру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7D59-61F8-413F-8AA3-076D62F013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Контрольный список оценки компетенции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верхняя половина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457200" y="1905120"/>
          <a:ext cx="8271000" cy="4297320"/>
        </p:xfrm>
        <a:graphic>
          <a:graphicData uri="http://schemas.openxmlformats.org/drawingml/2006/table">
            <a:tbl>
              <a:tblPr/>
              <a:tblGrid>
                <a:gridCol w="3276720"/>
                <a:gridCol w="838080"/>
                <a:gridCol w="117360"/>
                <a:gridCol w="990720"/>
                <a:gridCol w="533520"/>
                <a:gridCol w="2514600"/>
              </a:tblGrid>
              <a:tr h="361800"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О сотруд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жность сотруд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иваемая процед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оцен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пек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ь процед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тение руководства по выполнению процеду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пись в журнале регистрации прочтения руковод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ющееся оборуд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куратное место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готовление реаг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ное выполнение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евременное выполнение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7302-ED88-4D9D-9D6B-F926D1AD8E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457200" y="1752480"/>
          <a:ext cx="8229600" cy="443412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152280"/>
                <a:gridCol w="533520"/>
                <a:gridCol w="29718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рная оц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8088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буется повторное обучение для восполнения пробело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752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омендуемые действи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торную оценку провести чере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_____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148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пис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20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иваемый сотруд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пек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Контрольный список оценки компетенции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нижняя половина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C693-7CF1-44D8-B587-B1F7C871F1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Verdana"/>
              </a:rPr>
              <a:t>Оценка компетен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4"/>
          <p:cNvSpPr/>
          <p:nvPr/>
        </p:nvSpPr>
        <p:spPr>
          <a:xfrm>
            <a:off x="304920" y="1371600"/>
            <a:ext cx="8610480" cy="502920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304920" y="1371600"/>
          <a:ext cx="8610480" cy="4511520"/>
        </p:xfrm>
        <a:graphic>
          <a:graphicData uri="http://schemas.openxmlformats.org/drawingml/2006/table">
            <a:tbl>
              <a:tblPr/>
              <a:tblGrid>
                <a:gridCol w="1143000"/>
                <a:gridCol w="838080"/>
                <a:gridCol w="1447920"/>
                <a:gridCol w="1143000"/>
                <a:gridCol w="1218960"/>
                <a:gridCol w="281952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урнал регистрации оценок компетен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альная больниц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боратория микробиолог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труд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пек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тест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раска по Грам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эри Не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дующая оценка через 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рби-Бауэ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ис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енить повтор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ски были расположены слишком близко; повторить оценку через 14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рби-Бауэр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ис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дующая оценка через 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олнение флаконов для культивирования кро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эри Не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ифугирова-ние кле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ан Мб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дующая оценка через 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олнение автокла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ан Мб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од да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эри Не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енить повтор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ошибки при вводе данных. Прочитать руководство и повторить оценку через 10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9AC8-1A1E-4046-BD59-76C167F8E3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380880" y="1447920"/>
            <a:ext cx="4114800" cy="45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вязано с рабо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конкретным задач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вязано к оценк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р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учение руководств по выполнению процед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учение обновленных руковод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учение, предоставляемое производителями оборудовани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8"/>
          <p:cNvSpPr/>
          <p:nvPr/>
        </p:nvSpPr>
        <p:spPr>
          <a:xfrm>
            <a:off x="457200" y="685800"/>
            <a:ext cx="4038480" cy="5205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1"/>
          <p:cNvSpPr/>
          <p:nvPr/>
        </p:nvSpPr>
        <p:spPr>
          <a:xfrm>
            <a:off x="4572000" y="1752480"/>
            <a:ext cx="4267080" cy="45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вязано с рабо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 обязательн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конкретным задач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 обязательно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ривязано к оценк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р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нфер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емина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ьный клу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ы и литератур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2"/>
          <p:cNvSpPr/>
          <p:nvPr/>
        </p:nvSpPr>
        <p:spPr>
          <a:xfrm>
            <a:off x="4648320" y="609480"/>
            <a:ext cx="4267080" cy="9471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Продолжение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17" descr="MCBD06810_0000[1]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18" descr="MCBS00263_0000[1]"/>
          <p:cNvPicPr/>
          <p:nvPr/>
        </p:nvPicPr>
        <p:blipFill>
          <a:blip r:embed="rId2"/>
          <a:stretch/>
        </p:blipFill>
        <p:spPr>
          <a:xfrm>
            <a:off x="285264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664" name="WordArt 20"/>
          <p:cNvSpPr txBox="1"/>
          <p:nvPr/>
        </p:nvSpPr>
        <p:spPr>
          <a:xfrm>
            <a:off x="300996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Руководство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669C-949B-48FD-9321-2CB185D031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6E33-0C9E-49B2-AACD-04FE8B9584D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Verdana"/>
              </a:rPr>
              <a:t>Ресурсы для обуч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5"/>
          <p:cNvSpPr/>
          <p:nvPr/>
        </p:nvSpPr>
        <p:spPr>
          <a:xfrm>
            <a:off x="457200" y="1295280"/>
            <a:ext cx="41148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обственные кад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итет по обеспечению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дицинские сест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атоморфо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трудники подразделения контроля инфек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пидемио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6"/>
          <p:cNvSpPr/>
          <p:nvPr/>
        </p:nvSpPr>
        <p:spPr>
          <a:xfrm>
            <a:off x="4800600" y="1295280"/>
            <a:ext cx="411480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ш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ксперты-инспектор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извод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учные обществ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емирная организация здравоохра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тры по контролю и профилактике заболеваний С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рганизации, разрабатывающие стандар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7" descr="MPj04010010000[1]"/>
          <p:cNvPicPr/>
          <p:nvPr/>
        </p:nvPicPr>
        <p:blipFill>
          <a:blip r:embed="rId1"/>
          <a:stretch/>
        </p:blipFill>
        <p:spPr>
          <a:xfrm>
            <a:off x="2438280" y="4341960"/>
            <a:ext cx="1994040" cy="22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28EC-6759-419D-93F9-5ADB7BA5AD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Verdana"/>
              </a:rPr>
              <a:t>Причины плох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5"/>
          <p:cNvSpPr/>
          <p:nvPr/>
        </p:nvSpPr>
        <p:spPr>
          <a:xfrm>
            <a:off x="609480" y="1295280"/>
            <a:ext cx="685800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ерсо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здоровье сотруд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личные вопросы, отвлекающие от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недопо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неверная или неполная информ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115C-46DB-45C1-8602-FBCFA75F83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4"/>
          <p:cNvSpPr/>
          <p:nvPr/>
        </p:nvSpPr>
        <p:spPr>
          <a:xfrm>
            <a:off x="457200" y="1143000"/>
            <a:ext cx="762012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Систем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отвлечения на рабочем ме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чрезмерная рабочая нагруз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плохой инструкта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недостаточное 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не проводится оценка компете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сложные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СОП отсутствует или устар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неоднозначная СО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457200" y="457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Verdana"/>
              </a:rPr>
              <a:t>Причины плох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2:32:39Z</dcterms:modified>
  <cp:revision>232</cp:revision>
  <dc:subject/>
  <dc:title>Slide 1</dc:title>
</cp:coreProperties>
</file>